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940A-AA4B-46BF-A767-0A9406AAD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35CE-DD5F-4AB3-B7EC-F825AF1A2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602D-26BE-492A-AA4B-BAF476E5F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BEB8-58DB-4711-92AA-2AABFA4A3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ACFE-F147-422E-B018-73505CF56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C984-2387-41A6-976A-57D23065F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5146-D439-4E15-8B44-CDAF27054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CA52-F233-48D4-B492-9F993425F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40CF-09B1-465F-9516-334D8E9F0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6BDF-F99B-4F33-BE0E-34187B048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EEA4-640C-4B1C-97C0-AE69313CD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20F3-502F-419A-858E-9FCDF9CF9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9F82F-32D9-41C2-B239-4E78C5BE74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iostudio.com/c_%20education%20mac.htm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romosome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romosome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human genome consists of 23 pairs of chromos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ll of the DNA was stretched out, it would measure 1.8 metres in leng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es it fit into a typical human cell nucleus, 5 micrometres in diamet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erarchical Organization</a:t>
            </a:r>
            <a:br>
              <a:rPr sz="4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mage from: http://biology.kenyon.edu/courses/biol114/Chap01/chrom_struct.ht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y 200 nucleotides, DNA is coiled around a group of 8 stabilizing proteins calle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iston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forming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ucleos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666880" y="3733920"/>
            <a:ext cx="41418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romosome Structure</a:t>
            </a:r>
            <a:br>
              <a:rPr sz="4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animation: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biostudio.com/c_%20education%20mac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eries of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ucleosom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il into chromatin fib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omatin fibres fold into final chromatin structure through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percoil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romosome Structure</a:t>
            </a:r>
            <a:br>
              <a:rPr sz="4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home.planet.nl/~gkorthof/korthof59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130560" y="1981080"/>
            <a:ext cx="2882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ncoding D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about 20 000 to 25 000 known genes in human genome (from the Human Genome Project, 200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than 95% of the human genome is nonco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NT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coding regions filled with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ariable number tandem repeats (VNTRs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r microsatell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quences of repeating b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y among individu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are harmful (e.g., Huntington’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NTRs present i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lomer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entromer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ay be prot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seudoge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ilar nucleotide sequence to functioning ge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N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long interspersed nuclear elements) an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N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short interspersed nuclear elements) might be non-functioning copies of known genes, but their function is unkn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3T04:22:18Z</dcterms:created>
  <dc:creator>rubina khan</dc:creator>
  <dc:description/>
  <dc:language>en-US</dc:language>
  <cp:lastModifiedBy>rubina khan</cp:lastModifiedBy>
  <dcterms:modified xsi:type="dcterms:W3CDTF">2011-11-28T18:39:33Z</dcterms:modified>
  <cp:revision>43</cp:revision>
  <dc:subject/>
  <dc:title>Molecular Genetics</dc:title>
</cp:coreProperties>
</file>